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43C-02AD-45A9-9CC7-CA3CE54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C30-FC0C-4715-9540-7BD1A24A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BA7-402C-48B7-B379-FC52AE17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795-073D-42D1-9C92-1E8DF61E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94C-F0D3-4B9E-9077-3FA16744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967-537A-43DA-9733-21BA519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4550-C6D3-4846-80B8-275DF113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B39-B7E4-4246-B585-B9D8D0A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20A3-2D69-4455-A9A0-073FDAF5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65C2-1D32-44BE-B21B-ADA01FA7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3EC6-4B1A-4B98-A776-D80EABF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291-D907-4D2D-8258-AD1403A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5B28-931F-460F-A46C-C71FC69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582-9D2F-4800-B358-BA34FCC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E1C-F653-44E2-8577-4A02240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B0A-4B28-4407-B31F-45C36C46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5D6-08E9-4F3B-9CEA-CF99605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57E-7B7E-45F7-96E2-FB65408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C41-A6BC-4A2C-8818-9817A64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47F-472D-4BD7-801F-77D36AA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2B2-9A69-462F-9439-F6C49C0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AF8-9407-431B-B832-6D88548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FCD-681E-48A1-92DC-6C8AE6A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3BA-3784-4150-A4B7-6F71DA53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99D6-4BD2-43B4-B4E7-4C034BA21E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4A76-78F4-478C-92DB-46B6C9F110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e.uh.edu/digitalstorytelling/almostparadise.htm" TargetMode="External"/><Relationship Id="rId3" Type="http://schemas.openxmlformats.org/officeDocument/2006/relationships/hyperlink" Target="http://www.coe.uh.edu/digitalstorytelling/computer-I.htm" TargetMode="External"/><Relationship Id="rId4" Type="http://schemas.openxmlformats.org/officeDocument/2006/relationships/hyperlink" Target="http://www.coe.uh.edu/digitalstorytelling/rita.htm" TargetMode="External"/><Relationship Id="rId5" Type="http://schemas.openxmlformats.org/officeDocument/2006/relationships/hyperlink" Target="http://www.coe.uh.edu/digitalstorytelling/comingtohouston.htm" TargetMode="External"/><Relationship Id="rId6" Type="http://schemas.openxmlformats.org/officeDocument/2006/relationships/hyperlink" Target="http://www.coe.uh.edu/digitalstorytelling/mymama.htm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ace.org/conf/SITE/planner/index.cfm?CFID=13815230&amp;CFTOKEN=3693840&amp;fuseaction=Planner.PaperDetails&amp;presentation_id=29986&amp;confID=3021&amp;search_variables=fuseaction%3DPlanner%252EViewSessions%26search%5Fstring%3Dhofer%26search%5Ffield%3DAuthor%26search%5Fscope%3DAuthor%26confID%3D3021%26startrow%3D1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e.uh.edu/digitalstorytelling/stories/gettysburg-with-intro-final.wmv" TargetMode="External"/><Relationship Id="rId3" Type="http://schemas.openxmlformats.org/officeDocument/2006/relationships/hyperlink" Target="http://www.coe.uh.edu/digitalstorytelling/civilization.htm" TargetMode="External"/><Relationship Id="rId4" Type="http://schemas.openxmlformats.org/officeDocument/2006/relationships/hyperlink" Target="http://www.coe.uh.edu/digitalstorytelling/holocaust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Educational Us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511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ard Robi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ge of Educa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Hous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682920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 Effective Tool for Teach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 Created by Teachers Can Ser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Lesson H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Way to Integrate Multimedia into the Curriculum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Way to Make Difficult Content More Understand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Classroom Disc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5619600"/>
            <a:ext cx="678204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 Effective Learning T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Student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tion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ation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iew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95280" y="5610240"/>
            <a:ext cx="69249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udent Literac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19320" y="5619600"/>
            <a:ext cx="702936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llenges to Students Creating Digital Stori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Formulating a Sound Arg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nterest in the Storyt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echnology Hardware and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bility to Save from the 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and Intellectual Property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5610240"/>
            <a:ext cx="68961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arch on the Impa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s who ARE Using 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you using Digital Storytelling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you creating digital stories to show to your student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you teaching your students to create their own digital storie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udents are using Digital Storytelling, what are the outcomes? Have you demonstrated Digital Storytelling to others? If so, to other teachers? Who else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you feel that Digital Storytelling has changed your teaching practice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1600" y="5600880"/>
            <a:ext cx="6629400" cy="79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arch on the Impa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s who ARE NOT Using 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you not using Digital Storytelling? What are the obstacl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questions about how to use Digital Storytelling in your instr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experiencing technical problems? If so, what problems are you hav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interested in additional Digital Storytelling training sess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other issues that are preventing you from using Digital Storytelling in your instr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planning to use Digital Storytelling in the futu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1600" y="5600880"/>
            <a:ext cx="6629400" cy="79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re Research on Digital Storytell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en Barrett's Research Desig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digital stories provide evidence of deep lear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can digital stories be used to support assessment for lear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do students take ownership of their digital sto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enefits of developing digital stories as perceived by students, teachers, administrators, and/or par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perceived obstacles to implementing digital storytelling with P-12 students and how can they be overco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e quality of paper-based reflection differ from digital sto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19320" y="5610240"/>
            <a:ext cx="695304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versity of Houston’s Educational Us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Storytelling Websit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36320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coe.uh.edu/digitalstorytelling http://www.coe.uh.edu/digitalstorytel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682920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s Digital Storytelling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he art of telling stories with some mixture of digital graphics, text, recorded audio narration, video and music to present information on a specific topi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ve around a theme and often contain a particular viewpoint; stories are typically just a few minutes lo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683892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Narr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scribed by the C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 Sto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xplore how we love, who we are inspired by, and the importance of finding meaning in our relationship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ial Sto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deal with memories of people who are no longer with us. These stories are often difficult but are emotionally powerful and can help with the grieving proces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Events in Our Liv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venture Sto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revolve around places we visit and adventures we have in our travel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omplishment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deal with achieving goals and understanding defining moments in our li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Places in Our Liv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xamine the important places in our lives: our homes, our towns, and our experiences that connect us to our communiti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ies about What We D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allow us to talk about our jobs, professions and careers in terms of how we value and find meaning in the work we d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ersonal Stori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covery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deal with how we overcome great obstacles and challenges in our live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ve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rovide us with an opportunity to share some of the most meaningful parts of our lives with the people we most cherish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scovery Sto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let us reflect on what we have learned and illustrate our journeys of discove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ols We Us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 Story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ee from Microsoft)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microsoft.com/windowsxp/using/digitalphotography/photostory/default.msp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s Windows XP &amp; Windows Media Player 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icrosoft.com/windowsxp/using/digitalphotography/photostory/sysreqs.m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 Can Be Converted with Premiere Elements for Playback on Apple Computers or Older Versions of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ersonal Narr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Paradise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e.uh.edu/digitalstorytelling/almostparadise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er and I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oe.uh.edu/digitalstorytelling/computer-I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eing Hurricane Rita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coe.uh.edu/digitalstorytelling/rita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to Houston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coe.uh.edu/digitalstorytelling/comingtohouston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Mama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coe.uh.edu/digitalstorytelling/mymama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ation of Historical Themes and Ev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Material Students Explo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s Research and Organizational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s to Go Beyond the Digitized “MTV Video” or the “Encyclopedia Entry”*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igital Storytelling: Moving from Promise to Pract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 Hofer, College of William &amp; Mary, USA; Kathleen Owings Swan, University of Kentucky, 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4:00pm Wednesday, Universal 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istorical Digital Stor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ttysburg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e.uh.edu/digitalstorytelling/stories/gettysburg-with-intro-final.w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to the Mo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oe.uh.edu/digitalstorytelling/civilization.h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loca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coe.uh.edu/digitalstorytelling/holocaust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ma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hiroshima.htm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3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ies that Inform or I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rgued that All Digital Stories Inform (or Instruc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Distinction is that Digital Stories Can Be Created that Deliver Instructional Content on Many Different Topics, Including: Math, Science, Language Arts, Medicine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Digital Stories -3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Stories that Inform or Instruct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y: Art &amp; Architecture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van Hiele Levels of Geometric Understanding to Improve Student Achieve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geo-story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hole Camer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e.uh.edu/digitalstorytelling/pinhole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Well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oe.uh.edu/digitalstorytelling/agingwell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95280" y="5676840"/>
            <a:ext cx="681048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4:55:16Z</dcterms:created>
  <dc:creator>Bernard Robin</dc:creator>
  <dc:description/>
  <cp:keywords/>
  <dc:language>en-US</dc:language>
  <cp:lastModifiedBy>Bernard Robin</cp:lastModifiedBy>
  <dcterms:modified xsi:type="dcterms:W3CDTF">2006-10-24T19:03:50Z</dcterms:modified>
  <cp:revision>39</cp:revision>
  <dc:subject/>
  <dc:title>The Educational Uses of  Digital Storytel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